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C70-8CF0-4236-9473-2920B7D3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40E-5C6F-4D9F-AD92-DC373FE8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0F8B-377A-43F2-AADB-1CD67386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B84F-990F-46E5-8F2F-81F800E4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DFC-34E3-418E-9E8C-4C180D8A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D0C-2BDA-47AD-B489-A68BFD7E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D8D5-EDC1-4E3C-B9FF-0F64774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CE0-0A68-495B-9138-359EAA62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5E5-B432-4DFF-BE17-A763796E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DC9-593A-4DED-B026-7014BD5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BB6-A8C7-4E2E-8910-52BD09D0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7F9-F214-4FC3-B71F-BF53FFE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6A6C-2CB9-41B6-B500-E1FE54B7F4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3"/>
          <p:cNvSpPr/>
          <p:nvPr/>
        </p:nvSpPr>
        <p:spPr>
          <a:xfrm>
            <a:off x="380880" y="34308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7" descr="MC900432586[1]"/>
          <p:cNvPicPr/>
          <p:nvPr/>
        </p:nvPicPr>
        <p:blipFill>
          <a:blip r:embed="rId2"/>
          <a:stretch/>
        </p:blipFill>
        <p:spPr>
          <a:xfrm>
            <a:off x="8077320" y="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MC900432586[1]"/>
          <p:cNvPicPr/>
          <p:nvPr/>
        </p:nvPicPr>
        <p:blipFill>
          <a:blip r:embed="rId3"/>
          <a:stretch/>
        </p:blipFill>
        <p:spPr>
          <a:xfrm>
            <a:off x="380880" y="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" descr=""/>
          <p:cNvPicPr/>
          <p:nvPr/>
        </p:nvPicPr>
        <p:blipFill>
          <a:blip r:embed="rId4"/>
          <a:stretch/>
        </p:blipFill>
        <p:spPr>
          <a:xfrm>
            <a:off x="914400" y="762120"/>
            <a:ext cx="7315200" cy="82872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5"/>
          <a:stretch/>
        </p:blipFill>
        <p:spPr>
          <a:xfrm>
            <a:off x="914400" y="2200320"/>
            <a:ext cx="7291440" cy="1755720"/>
          </a:xfrm>
          <a:prstGeom prst="rect">
            <a:avLst/>
          </a:prstGeom>
          <a:ln w="0">
            <a:noFill/>
          </a:ln>
        </p:spPr>
      </p:pic>
      <p:sp>
        <p:nvSpPr>
          <p:cNvPr id="46" name="TextBox 3"/>
          <p:cNvSpPr/>
          <p:nvPr/>
        </p:nvSpPr>
        <p:spPr>
          <a:xfrm>
            <a:off x="781560" y="4572000"/>
            <a:ext cx="6410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елипенко Ольга Викторо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ОУ СОШ № 11 им.В.В.Рассох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.Армав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480600" y="457200"/>
            <a:ext cx="6327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гк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нимает иностранные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398520" y="914400"/>
            <a:ext cx="52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легк-о (наречие – окончания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92400" y="1258920"/>
            <a:ext cx="28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легк(ий) – легк-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447120" y="1606680"/>
            <a:ext cx="60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бразовано при помощи суффикса -о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439920" y="1973160"/>
            <a:ext cx="60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соб образования - суффикс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916200" y="2819520"/>
            <a:ext cx="180720" cy="206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372960" y="2971800"/>
            <a:ext cx="643392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я надевает самые дорогие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аря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181080" y="3429000"/>
            <a:ext cx="758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на-ряд(ы) – существительное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я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днокоре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явл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210600" y="4259160"/>
            <a:ext cx="60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наряд-и(ть) – наряды (наряды – это 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девают, когда наряжаютс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51560" y="5000760"/>
            <a:ext cx="839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ловообразовательные морфемы не использовалис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образовано от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176040" y="575640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соб образования  - бессуффик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8"/>
          <p:cNvSpPr/>
          <p:nvPr/>
        </p:nvSpPr>
        <p:spPr>
          <a:xfrm>
            <a:off x="114480" y="304920"/>
            <a:ext cx="7277040" cy="1066680"/>
          </a:xfrm>
          <a:prstGeom prst="foldedCorner">
            <a:avLst>
              <a:gd name="adj" fmla="val 23069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2" descr=""/>
          <p:cNvPicPr/>
          <p:nvPr/>
        </p:nvPicPr>
        <p:blipFill>
          <a:blip r:embed="rId1"/>
          <a:stretch/>
        </p:blipFill>
        <p:spPr>
          <a:xfrm>
            <a:off x="227160" y="378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4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7312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6" descr=""/>
          <p:cNvPicPr/>
          <p:nvPr/>
        </p:nvPicPr>
        <p:blipFill>
          <a:blip r:embed="rId3"/>
          <a:stretch/>
        </p:blipFill>
        <p:spPr>
          <a:xfrm>
            <a:off x="6738840" y="384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04920" y="1473120"/>
            <a:ext cx="8534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ечия на -о образованы суффиксальным способом от прилагательны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лгий-дол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ятный-прия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сердный-усерд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астия и деепричастия образованы суффиксальным способом от глагол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видеть-увидевш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елить-делим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нимать-приним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!! Будь осторожен с Н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ехорошо – наречие на –о образовано не от прилагательного хороший, а от наречия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8"/>
          <p:cNvSpPr/>
          <p:nvPr/>
        </p:nvSpPr>
        <p:spPr>
          <a:xfrm>
            <a:off x="114480" y="304920"/>
            <a:ext cx="7277040" cy="1066680"/>
          </a:xfrm>
          <a:prstGeom prst="foldedCorner">
            <a:avLst>
              <a:gd name="adj" fmla="val 23069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tretch/>
        </p:blipFill>
        <p:spPr>
          <a:xfrm>
            <a:off x="227160" y="378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7312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"/>
          <p:cNvPicPr/>
          <p:nvPr/>
        </p:nvPicPr>
        <p:blipFill>
          <a:blip r:embed="rId3"/>
          <a:stretch/>
        </p:blipFill>
        <p:spPr>
          <a:xfrm>
            <a:off x="6738840" y="384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7"/>
          <p:cNvSpPr/>
          <p:nvPr/>
        </p:nvSpPr>
        <p:spPr>
          <a:xfrm>
            <a:off x="304920" y="1473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88960" y="1935000"/>
            <a:ext cx="7926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имения и наречия с НЕ- и НИ- образова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тавочным способ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то – нект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гда – ник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!! Обрати внимание на падежные формы местоим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говори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е с кем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не с кем(тв.п.) – некто(им.п.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о приставочным способом от местоимени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то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8"/>
          <p:cNvSpPr/>
          <p:nvPr/>
        </p:nvSpPr>
        <p:spPr>
          <a:xfrm>
            <a:off x="114480" y="304920"/>
            <a:ext cx="7277040" cy="1066680"/>
          </a:xfrm>
          <a:prstGeom prst="foldedCorner">
            <a:avLst>
              <a:gd name="adj" fmla="val 23069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2" descr=""/>
          <p:cNvPicPr/>
          <p:nvPr/>
        </p:nvPicPr>
        <p:blipFill>
          <a:blip r:embed="rId1"/>
          <a:stretch/>
        </p:blipFill>
        <p:spPr>
          <a:xfrm>
            <a:off x="227160" y="378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7312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"/>
          <p:cNvPicPr/>
          <p:nvPr/>
        </p:nvPicPr>
        <p:blipFill>
          <a:blip r:embed="rId3"/>
          <a:stretch/>
        </p:blipFill>
        <p:spPr>
          <a:xfrm>
            <a:off x="6738840" y="384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7"/>
          <p:cNvSpPr/>
          <p:nvPr/>
        </p:nvSpPr>
        <p:spPr>
          <a:xfrm>
            <a:off x="304920" y="1473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588960" y="1935000"/>
            <a:ext cx="7926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суфиксным способом образуются только существи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ежать – бег, разрывать – разрыв, синий – си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ихий – тишь, полететь – полет, зеленый – зел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!! В значении этих существительных остается действие или призн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мена – кого-то(что-то) замени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ушь – глухое мес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8"/>
          <p:cNvSpPr/>
          <p:nvPr/>
        </p:nvSpPr>
        <p:spPr>
          <a:xfrm>
            <a:off x="114480" y="304920"/>
            <a:ext cx="7277040" cy="1066680"/>
          </a:xfrm>
          <a:prstGeom prst="foldedCorner">
            <a:avLst>
              <a:gd name="adj" fmla="val 23069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2" descr=""/>
          <p:cNvPicPr/>
          <p:nvPr/>
        </p:nvPicPr>
        <p:blipFill>
          <a:blip r:embed="rId1"/>
          <a:stretch/>
        </p:blipFill>
        <p:spPr>
          <a:xfrm>
            <a:off x="227160" y="378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11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7312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6" descr=""/>
          <p:cNvPicPr/>
          <p:nvPr/>
        </p:nvPicPr>
        <p:blipFill>
          <a:blip r:embed="rId3"/>
          <a:stretch/>
        </p:blipFill>
        <p:spPr>
          <a:xfrm>
            <a:off x="6738840" y="384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3" name="TextBox 7"/>
          <p:cNvSpPr/>
          <p:nvPr/>
        </p:nvSpPr>
        <p:spPr>
          <a:xfrm>
            <a:off x="304920" y="1473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"/>
          <p:cNvSpPr/>
          <p:nvPr/>
        </p:nvSpPr>
        <p:spPr>
          <a:xfrm>
            <a:off x="588960" y="1935000"/>
            <a:ext cx="7926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речия не на –о образованы чаще всего приставочно-суффиксальным способ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о-первых - от перв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-дружески - от дружес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лева – от левы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начала – от нача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8"/>
          <p:cNvSpPr/>
          <p:nvPr/>
        </p:nvSpPr>
        <p:spPr>
          <a:xfrm>
            <a:off x="114480" y="304920"/>
            <a:ext cx="7277040" cy="1066680"/>
          </a:xfrm>
          <a:prstGeom prst="foldedCorner">
            <a:avLst>
              <a:gd name="adj" fmla="val 23069"/>
            </a:avLst>
          </a:prstGeom>
          <a:solidFill>
            <a:srgbClr val="ff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2" descr=""/>
          <p:cNvPicPr/>
          <p:nvPr/>
        </p:nvPicPr>
        <p:blipFill>
          <a:blip r:embed="rId1"/>
          <a:stretch/>
        </p:blipFill>
        <p:spPr>
          <a:xfrm>
            <a:off x="227160" y="37800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573120"/>
            <a:ext cx="4194000" cy="5238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"/>
          <p:cNvPicPr/>
          <p:nvPr/>
        </p:nvPicPr>
        <p:blipFill>
          <a:blip r:embed="rId3"/>
          <a:stretch/>
        </p:blipFill>
        <p:spPr>
          <a:xfrm>
            <a:off x="6738840" y="38412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7"/>
          <p:cNvSpPr/>
          <p:nvPr/>
        </p:nvSpPr>
        <p:spPr>
          <a:xfrm>
            <a:off x="304920" y="14731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227160" y="1935000"/>
            <a:ext cx="8611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!!! Научись строить словообразовательные цепочк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может тебе лучше понять морфемное строение сло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      след-ова-ть      по-след-ова-ть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-след-ова-тельн-ый      не-по-след-ова-тельн-ый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-по-след-ова-тельн-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3"/>
          <p:cNvCxnSpPr/>
          <p:nvPr/>
        </p:nvCxnSpPr>
        <p:spPr>
          <a:xfrm>
            <a:off x="1142640" y="3657240"/>
            <a:ext cx="343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Рисунок 4" descr=""/>
          <p:cNvPicPr/>
          <p:nvPr/>
        </p:nvPicPr>
        <p:blipFill>
          <a:blip r:embed="rId4"/>
          <a:stretch/>
        </p:blipFill>
        <p:spPr>
          <a:xfrm>
            <a:off x="3325680" y="3584520"/>
            <a:ext cx="427320" cy="146160"/>
          </a:xfrm>
          <a:prstGeom prst="rect">
            <a:avLst/>
          </a:prstGeom>
          <a:ln w="0">
            <a:noFill/>
          </a:ln>
        </p:spPr>
      </p:pic>
      <p:cxnSp>
        <p:nvCxnSpPr>
          <p:cNvPr id="123" name="Прямая со стрелкой 10"/>
          <p:cNvCxnSpPr/>
          <p:nvPr/>
        </p:nvCxnSpPr>
        <p:spPr>
          <a:xfrm>
            <a:off x="5943240" y="3657240"/>
            <a:ext cx="343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Прямая со стрелкой 11"/>
          <p:cNvCxnSpPr/>
          <p:nvPr/>
        </p:nvCxnSpPr>
        <p:spPr>
          <a:xfrm>
            <a:off x="3540240" y="4038120"/>
            <a:ext cx="3434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Прямая со стрелкой 12"/>
          <p:cNvCxnSpPr/>
          <p:nvPr/>
        </p:nvCxnSpPr>
        <p:spPr>
          <a:xfrm>
            <a:off x="7543440" y="4038120"/>
            <a:ext cx="3438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10"/>
          <p:cNvSpPr/>
          <p:nvPr/>
        </p:nvSpPr>
        <p:spPr>
          <a:xfrm>
            <a:off x="533520" y="380880"/>
            <a:ext cx="7772400" cy="5639040"/>
          </a:xfrm>
          <a:prstGeom prst="foldedCorner">
            <a:avLst>
              <a:gd name="adj" fmla="val 23069"/>
            </a:avLst>
          </a:prstGeom>
          <a:solidFill>
            <a:srgbClr val="85fbf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8380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MC900432586[1]"/>
          <p:cNvPicPr/>
          <p:nvPr/>
        </p:nvPicPr>
        <p:blipFill>
          <a:blip r:embed="rId1"/>
          <a:stretch/>
        </p:blipFill>
        <p:spPr>
          <a:xfrm>
            <a:off x="990720" y="15228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"/>
          <p:cNvPicPr/>
          <p:nvPr/>
        </p:nvPicPr>
        <p:blipFill>
          <a:blip r:embed="rId2"/>
          <a:stretch/>
        </p:blipFill>
        <p:spPr>
          <a:xfrm>
            <a:off x="7162920" y="1540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3"/>
          <a:stretch/>
        </p:blipFill>
        <p:spPr>
          <a:xfrm>
            <a:off x="969840" y="1957320"/>
            <a:ext cx="719316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4"/>
          <p:cNvSpPr/>
          <p:nvPr/>
        </p:nvSpPr>
        <p:spPr>
          <a:xfrm>
            <a:off x="380880" y="457200"/>
            <a:ext cx="8153640" cy="5867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MC900432586[1]"/>
          <p:cNvPicPr/>
          <p:nvPr/>
        </p:nvPicPr>
        <p:blipFill>
          <a:blip r:embed="rId2"/>
          <a:stretch/>
        </p:blipFill>
        <p:spPr>
          <a:xfrm>
            <a:off x="4495680" y="2286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33" name="Прямоугольник 1" descr=""/>
          <p:cNvPicPr/>
          <p:nvPr/>
        </p:nvPicPr>
        <p:blipFill>
          <a:blip r:embed="rId3"/>
          <a:stretch/>
        </p:blipFill>
        <p:spPr>
          <a:xfrm>
            <a:off x="1292400" y="993600"/>
            <a:ext cx="2298600" cy="4572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2"/>
          <p:cNvSpPr/>
          <p:nvPr/>
        </p:nvSpPr>
        <p:spPr>
          <a:xfrm>
            <a:off x="555840" y="1681200"/>
            <a:ext cx="762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ый государственный экзамен. Русский язы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ые материалы для подгот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щихся/ФИПИ-М.:Интеллект-Центр,20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ский язык. Полный школьный курс для ЕГЭ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И.Львова.-М.:ОЛМА Медиа Групп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1678680" y="43434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4" descr=""/>
          <p:cNvPicPr/>
          <p:nvPr/>
        </p:nvPicPr>
        <p:blipFill>
          <a:blip r:embed="rId4"/>
          <a:stretch/>
        </p:blipFill>
        <p:spPr>
          <a:xfrm>
            <a:off x="798480" y="3803760"/>
            <a:ext cx="735192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645000" cy="4636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143000" y="914400"/>
            <a:ext cx="7238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СНОВНЫЕ СПОСОБЫ ОБРАЗОВАНИЯ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РУССКОМ ЯЗЫ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380880" y="2666880"/>
            <a:ext cx="2784600" cy="194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С ПОМОЩЬЮ ПРИСТАВОК И СУФФИКС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"/>
          <p:cNvPicPr/>
          <p:nvPr/>
        </p:nvPicPr>
        <p:blipFill>
          <a:blip r:embed="rId2"/>
          <a:stretch/>
        </p:blipFill>
        <p:spPr>
          <a:xfrm>
            <a:off x="3048120" y="5038560"/>
            <a:ext cx="3200400" cy="11336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3624480" y="53341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5410080" y="2716200"/>
            <a:ext cx="2971800" cy="194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РФЕ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ПОМ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Прямая со стрелкой 11"/>
          <p:cNvCxnSpPr/>
          <p:nvPr/>
        </p:nvCxnSpPr>
        <p:spPr>
          <a:xfrm flipH="1">
            <a:off x="1675800" y="1943280"/>
            <a:ext cx="1600920" cy="72432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4" name="Прямая со стрелкой 12"/>
          <p:cNvCxnSpPr/>
          <p:nvPr/>
        </p:nvCxnSpPr>
        <p:spPr>
          <a:xfrm>
            <a:off x="4495320" y="1905120"/>
            <a:ext cx="1080" cy="313416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55" name="Прямая со стрелкой 13"/>
          <p:cNvCxnSpPr/>
          <p:nvPr/>
        </p:nvCxnSpPr>
        <p:spPr>
          <a:xfrm>
            <a:off x="6130440" y="1904760"/>
            <a:ext cx="1032840" cy="811800"/>
          </a:xfrm>
          <a:prstGeom prst="straightConnector1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rcRect l="2379" t="1300" r="14289" b="1108"/>
          <a:stretch/>
        </p:blipFill>
        <p:spPr>
          <a:xfrm>
            <a:off x="1981080" y="1566720"/>
            <a:ext cx="5410440" cy="5137200"/>
          </a:xfrm>
          <a:prstGeom prst="rect">
            <a:avLst/>
          </a:prstGeom>
          <a:ln w="0">
            <a:noFill/>
          </a:ln>
        </p:spPr>
      </p:pic>
      <p:sp>
        <p:nvSpPr>
          <p:cNvPr id="57" name="TextBox 2"/>
          <p:cNvSpPr/>
          <p:nvPr/>
        </p:nvSpPr>
        <p:spPr>
          <a:xfrm>
            <a:off x="2897640" y="228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990720" y="71280"/>
            <a:ext cx="6781680" cy="137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 ПОМОЩЬЮ ПРИСТАВОК И СУФФИКС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2" descr=""/>
          <p:cNvPicPr/>
          <p:nvPr/>
        </p:nvPicPr>
        <p:blipFill>
          <a:blip r:embed="rId1"/>
          <a:srcRect l="5738" t="6147" r="14596" b="6147"/>
          <a:stretch/>
        </p:blipFill>
        <p:spPr>
          <a:xfrm>
            <a:off x="914400" y="2133720"/>
            <a:ext cx="7429680" cy="3962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143000" y="609480"/>
            <a:ext cx="6400800" cy="94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МОРФЕМ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З ПОМОЩИ МОРФЕ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rcRect l="0" t="3708" r="7568" b="3708"/>
          <a:stretch/>
        </p:blipFill>
        <p:spPr>
          <a:xfrm>
            <a:off x="1219320" y="1447920"/>
            <a:ext cx="6246720" cy="52578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3281400" y="380880"/>
            <a:ext cx="235260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334800"/>
            <a:ext cx="4462200" cy="6462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348480" y="996840"/>
            <a:ext cx="662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1. Из предложения(ий) … выпишите слов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разованное …….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Прямоугольник 4" descr=""/>
          <p:cNvPicPr/>
          <p:nvPr/>
        </p:nvPicPr>
        <p:blipFill>
          <a:blip r:embed="rId2"/>
          <a:stretch/>
        </p:blipFill>
        <p:spPr>
          <a:xfrm>
            <a:off x="281160" y="2494080"/>
            <a:ext cx="2992320" cy="645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/>
          <p:cNvSpPr/>
          <p:nvPr/>
        </p:nvSpPr>
        <p:spPr>
          <a:xfrm>
            <a:off x="207000" y="3290760"/>
            <a:ext cx="88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все слова, в которых есть указанная морф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предыдущее слово в  словообразователь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п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Выбрать иском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7"/>
          <p:cNvSpPr/>
          <p:nvPr/>
        </p:nvSpPr>
        <p:spPr>
          <a:xfrm>
            <a:off x="898560" y="4076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221760" y="76320"/>
            <a:ext cx="8643600" cy="1557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1)Какое же зеркало жизни наш язык! (2)Нет, он поис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елик, оставаясь и поныне свободным, правди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1. Из предложений 1-2 выпишите слово, образова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тавочны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04400" y="1646280"/>
            <a:ext cx="87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ишу слова с приставкой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ПО-ИСТИН-Е     ПО-НЫН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93600" y="2108160"/>
            <a:ext cx="8745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ист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речие – окончания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ру приставку: истине – такого слова без окончания нет (истине  -  существительное в Д.п., н.ф. – ист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ру суффикс: поистин(ый) – такого слова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ру приставку и суффикс: истина – от этого слова образовали   наречие поис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образования – приставочно-суффикс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ны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речие – окончания не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беру приставку: ныне – такое наречие есть, оно образует слово 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образования – приставоч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92880" y="6262560"/>
            <a:ext cx="425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комое слово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ы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7"/>
          <p:cNvSpPr/>
          <p:nvPr/>
        </p:nvSpPr>
        <p:spPr>
          <a:xfrm>
            <a:off x="258840" y="2664000"/>
            <a:ext cx="86868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изредк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наречие – окончания нет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беру приставку: редка – такого слова без окончания не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едк-а  - прилагательное в краткой форме н.ф. – ред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беру суффикс: изредк(ий) – такого слова н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беру приставку и суффикс: редк(ий) – от этого слова образовали  наречие изред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 образования – приставочно-суффиксальны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ересохшие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ричастие – образовано от глагол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ересохнуть(глаг.) – пересохшие(действ. причастие прош.вр. образовано при помощи суффикса -ш-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соб образования – суффиксальный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3"/>
          <p:cNvSpPr/>
          <p:nvPr/>
        </p:nvSpPr>
        <p:spPr>
          <a:xfrm>
            <a:off x="304920" y="3808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79720" y="86400"/>
            <a:ext cx="8431920" cy="192276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4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Дом будто тихо сопит от тяжелых котовых шаг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(5)Изредка, вдоль по слоям, лопаются кремн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ресохшие матицы, скрипят усталые связ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1. Из предложений 4-5 выпишите слово, образова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ставочно-суффиксальным спосо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258840" y="1954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ишу слова, в которых есть приставка и суффик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З-РЕДК-А            ПЕРЕ-СОХ-Ш-ИЕ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280440" y="638640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Искомое слово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ред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Прямоугольник 1" descr=""/>
          <p:cNvPicPr/>
          <p:nvPr/>
        </p:nvPicPr>
        <p:blipFill>
          <a:blip r:embed="rId1"/>
          <a:stretch/>
        </p:blipFill>
        <p:spPr>
          <a:xfrm>
            <a:off x="438120" y="365040"/>
            <a:ext cx="4457880" cy="64620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268200" y="1090440"/>
            <a:ext cx="87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1.  Укажите способ образования слова…. (предложени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4" descr=""/>
          <p:cNvPicPr/>
          <p:nvPr/>
        </p:nvPicPr>
        <p:blipFill>
          <a:blip r:embed="rId2"/>
          <a:stretch/>
        </p:blipFill>
        <p:spPr>
          <a:xfrm>
            <a:off x="438120" y="2322360"/>
            <a:ext cx="2987640" cy="65268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-53640" y="3200400"/>
            <a:ext cx="8880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делить слово на морф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предыдущее слово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образовательной цепоч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пределить, с помощью какой морфемы образова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Указать способ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5:51:16Z</dcterms:created>
  <dc:creator>user</dc:creator>
  <dc:description/>
  <dc:language>en-US</dc:language>
  <cp:lastModifiedBy>Олег Пелипенко</cp:lastModifiedBy>
  <dcterms:modified xsi:type="dcterms:W3CDTF">2013-03-28T20:44:02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